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9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197-4219-4B5D-BB6A-DC93860F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B2C-31F4-46E9-B3CB-01E0C787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746-4840-46B2-9A2A-8185C081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506-D312-4DEF-9707-DA89E51F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489-DFE1-49AC-8214-0DAFE451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A6C-9758-4B58-AA3E-5DFEBE15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140-F185-401C-AC81-B0F96164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136-557B-4A8B-BD36-A2915EA6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47E-6984-4312-8C8D-0ADA1071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06A-1AC9-4665-BA5B-52EF5456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04F-CA38-4C86-B568-58E3B80E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49F-9BB5-46BF-BE23-2B3CDB5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E14F-5700-4BB6-9E9B-A9C3E03CE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5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81000"/>
            <a:ext cx="71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JABB ELJÁRÁSOK AZ IZOMTÖMEG ÉS AZ IZOMFUNKCIÓK FEJLESZTÉSÉ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26845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or Péter, Tihanyi József, Borka Pé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6200" y="3619440"/>
            <a:ext cx="61214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mmelweis Egyetem Testnevelési és Sporttudományi K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vábhegyi Gyermekgyógyintéz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2360" y="260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zisztencia-edzés program COPD-sek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2060640"/>
            <a:ext cx="727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lső két héten 2 napon 2x majd 3x12 gyakorlat, 7 izomcsoporttal, 2 perces, nyújtással kitöltött pihenőkkel, 15-18 RM intenzitá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8468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. – 7. héten 2x -4x 10 gyakorlat (10 RM), heti 3x120 perc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500364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8. – 12.  héten ehhez excentrikus gyakorlatok is társulna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4842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right 2003, Boch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800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9236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z excentrikus izomed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126828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 max. izometriásnál nagyobb (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upramaximális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) izomfeszülés – nagyobb stressz, de nagyobb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zésinger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637000"/>
            <a:ext cx="727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ugyanakkora koncentrikus mechanikai teljesítményhez képest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5-7x kisebb oxigén igény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lasztikus „rugók” a kötő- és izomszövet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65300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tós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omláz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z első 2-3 edzés utá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92360" y="260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z excentrikus edzés koronária betege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15318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einer etc. Eur. J. Appl. Physiol. 2004. 91, 57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776680"/>
            <a:ext cx="7274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ti 3 x fél óra, azonos 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igényű (V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60 %-a: 97, illetve 338 Wattal) koncentrikus és excentrikus kerékpározás. Izomtömeg +  3 %, erő csak az excentrikusan edzőkön nőtt, 5-11 %-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8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92360" y="260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z excentrikus edzés COPD-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5318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oyackers etc. Int. J. Rehab. Res., 2003. 26, 47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776680"/>
            <a:ext cx="727416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úlyos COPD-sek (FEVI 38-45 %, Watt max-nál 90 % alatt az S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az excentrikus kerékpározást a Watt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max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60-val tudták végezni, Borg 3 és 90 % feletti S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vel, 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ótlás nélkül. A kardiocirc. fittség és a gázcsere mutatók oly mértékben fejlődtek, mint a koncentrikus biciklizés 10 hete al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800"/>
                            </p:stCondLst>
                            <p:childTnLst>
                              <p:par>
                                <p:cTn id="4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2728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brá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2682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y végtag vagy izomcsoport vibráci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6000" y="2319480"/>
            <a:ext cx="2879640" cy="221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2890800" cy="2109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30920" y="12682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ész test vib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76720" y="1916280"/>
            <a:ext cx="1689120" cy="238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659640" y="2924280"/>
            <a:ext cx="22096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4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400"/>
                            </p:stCondLst>
                            <p:childTnLst>
                              <p:par>
                                <p:cTn id="5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400"/>
                            </p:stCondLst>
                            <p:childTnLst>
                              <p:par>
                                <p:cTn id="52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40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12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3120"/>
                            </p:stCondLst>
                            <p:childTnLst>
                              <p:par>
                                <p:cTn id="53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ódsz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413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plitú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900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ek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692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őtar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6920" y="3716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ét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1700280"/>
            <a:ext cx="1368360" cy="430200"/>
          </a:xfrm>
          <a:custGeom>
            <a:avLst/>
            <a:gdLst/>
            <a:ahLst/>
            <a:rect l="l" t="t" r="r" b="b"/>
            <a:pathLst>
              <a:path w="2132" h="1057">
                <a:moveTo>
                  <a:pt x="0" y="506"/>
                </a:moveTo>
                <a:cubicBezTo>
                  <a:pt x="26" y="381"/>
                  <a:pt x="53" y="256"/>
                  <a:pt x="91" y="188"/>
                </a:cubicBezTo>
                <a:cubicBezTo>
                  <a:pt x="129" y="120"/>
                  <a:pt x="189" y="90"/>
                  <a:pt x="227" y="98"/>
                </a:cubicBezTo>
                <a:cubicBezTo>
                  <a:pt x="265" y="106"/>
                  <a:pt x="288" y="166"/>
                  <a:pt x="318" y="234"/>
                </a:cubicBezTo>
                <a:cubicBezTo>
                  <a:pt x="348" y="302"/>
                  <a:pt x="363" y="400"/>
                  <a:pt x="408" y="506"/>
                </a:cubicBezTo>
                <a:cubicBezTo>
                  <a:pt x="453" y="612"/>
                  <a:pt x="545" y="794"/>
                  <a:pt x="590" y="869"/>
                </a:cubicBezTo>
                <a:cubicBezTo>
                  <a:pt x="635" y="944"/>
                  <a:pt x="635" y="1057"/>
                  <a:pt x="680" y="959"/>
                </a:cubicBezTo>
                <a:cubicBezTo>
                  <a:pt x="725" y="861"/>
                  <a:pt x="801" y="423"/>
                  <a:pt x="862" y="279"/>
                </a:cubicBezTo>
                <a:cubicBezTo>
                  <a:pt x="923" y="135"/>
                  <a:pt x="960" y="0"/>
                  <a:pt x="1043" y="98"/>
                </a:cubicBezTo>
                <a:cubicBezTo>
                  <a:pt x="1126" y="196"/>
                  <a:pt x="1278" y="725"/>
                  <a:pt x="1361" y="869"/>
                </a:cubicBezTo>
                <a:cubicBezTo>
                  <a:pt x="1444" y="1013"/>
                  <a:pt x="1474" y="1050"/>
                  <a:pt x="1542" y="959"/>
                </a:cubicBezTo>
                <a:cubicBezTo>
                  <a:pt x="1610" y="868"/>
                  <a:pt x="1708" y="468"/>
                  <a:pt x="1769" y="324"/>
                </a:cubicBezTo>
                <a:cubicBezTo>
                  <a:pt x="1830" y="180"/>
                  <a:pt x="1845" y="45"/>
                  <a:pt x="1905" y="98"/>
                </a:cubicBezTo>
                <a:cubicBezTo>
                  <a:pt x="1965" y="151"/>
                  <a:pt x="2094" y="551"/>
                  <a:pt x="2132" y="6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1341360"/>
            <a:ext cx="1368360" cy="1152720"/>
          </a:xfrm>
          <a:custGeom>
            <a:avLst/>
            <a:gdLst/>
            <a:ahLst/>
            <a:rect l="l" t="t" r="r" b="b"/>
            <a:pathLst>
              <a:path w="2132" h="1057">
                <a:moveTo>
                  <a:pt x="0" y="506"/>
                </a:moveTo>
                <a:cubicBezTo>
                  <a:pt x="26" y="381"/>
                  <a:pt x="53" y="256"/>
                  <a:pt x="91" y="188"/>
                </a:cubicBezTo>
                <a:cubicBezTo>
                  <a:pt x="129" y="120"/>
                  <a:pt x="189" y="90"/>
                  <a:pt x="227" y="98"/>
                </a:cubicBezTo>
                <a:cubicBezTo>
                  <a:pt x="265" y="106"/>
                  <a:pt x="288" y="166"/>
                  <a:pt x="318" y="234"/>
                </a:cubicBezTo>
                <a:cubicBezTo>
                  <a:pt x="348" y="302"/>
                  <a:pt x="363" y="400"/>
                  <a:pt x="408" y="506"/>
                </a:cubicBezTo>
                <a:cubicBezTo>
                  <a:pt x="453" y="612"/>
                  <a:pt x="545" y="794"/>
                  <a:pt x="590" y="869"/>
                </a:cubicBezTo>
                <a:cubicBezTo>
                  <a:pt x="635" y="944"/>
                  <a:pt x="635" y="1057"/>
                  <a:pt x="680" y="959"/>
                </a:cubicBezTo>
                <a:cubicBezTo>
                  <a:pt x="725" y="861"/>
                  <a:pt x="801" y="423"/>
                  <a:pt x="862" y="279"/>
                </a:cubicBezTo>
                <a:cubicBezTo>
                  <a:pt x="923" y="135"/>
                  <a:pt x="960" y="0"/>
                  <a:pt x="1043" y="98"/>
                </a:cubicBezTo>
                <a:cubicBezTo>
                  <a:pt x="1126" y="196"/>
                  <a:pt x="1278" y="725"/>
                  <a:pt x="1361" y="869"/>
                </a:cubicBezTo>
                <a:cubicBezTo>
                  <a:pt x="1444" y="1013"/>
                  <a:pt x="1474" y="1050"/>
                  <a:pt x="1542" y="959"/>
                </a:cubicBezTo>
                <a:cubicBezTo>
                  <a:pt x="1610" y="868"/>
                  <a:pt x="1708" y="468"/>
                  <a:pt x="1769" y="324"/>
                </a:cubicBezTo>
                <a:cubicBezTo>
                  <a:pt x="1830" y="180"/>
                  <a:pt x="1845" y="45"/>
                  <a:pt x="1905" y="98"/>
                </a:cubicBezTo>
                <a:cubicBezTo>
                  <a:pt x="1965" y="151"/>
                  <a:pt x="2094" y="551"/>
                  <a:pt x="2132" y="6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1052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10461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076720" y="2674800"/>
            <a:ext cx="1440000" cy="828720"/>
            <a:chOff x="5076720" y="2674800"/>
            <a:chExt cx="1440000" cy="828720"/>
          </a:xfrm>
        </p:grpSpPr>
        <p:sp>
          <p:nvSpPr>
            <p:cNvPr id="116" name=""/>
            <p:cNvSpPr/>
            <p:nvPr/>
          </p:nvSpPr>
          <p:spPr>
            <a:xfrm>
              <a:off x="5076720" y="3073320"/>
              <a:ext cx="1368360" cy="430200"/>
            </a:xfrm>
            <a:custGeom>
              <a:avLst/>
              <a:gdLst/>
              <a:ahLst/>
              <a:rect l="l" t="t" r="r" b="b"/>
              <a:pathLst>
                <a:path w="2132" h="1057">
                  <a:moveTo>
                    <a:pt x="0" y="506"/>
                  </a:moveTo>
                  <a:cubicBezTo>
                    <a:pt x="26" y="381"/>
                    <a:pt x="53" y="256"/>
                    <a:pt x="91" y="188"/>
                  </a:cubicBezTo>
                  <a:cubicBezTo>
                    <a:pt x="129" y="120"/>
                    <a:pt x="189" y="90"/>
                    <a:pt x="227" y="98"/>
                  </a:cubicBezTo>
                  <a:cubicBezTo>
                    <a:pt x="265" y="106"/>
                    <a:pt x="288" y="166"/>
                    <a:pt x="318" y="234"/>
                  </a:cubicBezTo>
                  <a:cubicBezTo>
                    <a:pt x="348" y="302"/>
                    <a:pt x="363" y="400"/>
                    <a:pt x="408" y="506"/>
                  </a:cubicBezTo>
                  <a:cubicBezTo>
                    <a:pt x="453" y="612"/>
                    <a:pt x="545" y="794"/>
                    <a:pt x="590" y="869"/>
                  </a:cubicBezTo>
                  <a:cubicBezTo>
                    <a:pt x="635" y="944"/>
                    <a:pt x="635" y="1057"/>
                    <a:pt x="680" y="959"/>
                  </a:cubicBezTo>
                  <a:cubicBezTo>
                    <a:pt x="725" y="861"/>
                    <a:pt x="801" y="423"/>
                    <a:pt x="862" y="279"/>
                  </a:cubicBezTo>
                  <a:cubicBezTo>
                    <a:pt x="923" y="135"/>
                    <a:pt x="960" y="0"/>
                    <a:pt x="1043" y="98"/>
                  </a:cubicBezTo>
                  <a:cubicBezTo>
                    <a:pt x="1126" y="196"/>
                    <a:pt x="1278" y="725"/>
                    <a:pt x="1361" y="869"/>
                  </a:cubicBezTo>
                  <a:cubicBezTo>
                    <a:pt x="1444" y="1013"/>
                    <a:pt x="1474" y="1050"/>
                    <a:pt x="1542" y="959"/>
                  </a:cubicBezTo>
                  <a:cubicBezTo>
                    <a:pt x="1610" y="868"/>
                    <a:pt x="1708" y="468"/>
                    <a:pt x="1769" y="324"/>
                  </a:cubicBezTo>
                  <a:cubicBezTo>
                    <a:pt x="1830" y="180"/>
                    <a:pt x="1845" y="45"/>
                    <a:pt x="1905" y="98"/>
                  </a:cubicBezTo>
                  <a:cubicBezTo>
                    <a:pt x="1965" y="151"/>
                    <a:pt x="2094" y="551"/>
                    <a:pt x="2132" y="64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08720" y="2674800"/>
              <a:ext cx="1008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20 H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164360" y="2674800"/>
            <a:ext cx="1728720" cy="986400"/>
            <a:chOff x="7164360" y="2674800"/>
            <a:chExt cx="1728720" cy="986400"/>
          </a:xfrm>
        </p:grpSpPr>
        <p:grpSp>
          <p:nvGrpSpPr>
            <p:cNvPr id="119" name=""/>
            <p:cNvGrpSpPr/>
            <p:nvPr/>
          </p:nvGrpSpPr>
          <p:grpSpPr>
            <a:xfrm>
              <a:off x="7164360" y="3144960"/>
              <a:ext cx="1728720" cy="516240"/>
              <a:chOff x="7164360" y="3144960"/>
              <a:chExt cx="1728720" cy="516240"/>
            </a:xfrm>
          </p:grpSpPr>
          <p:sp>
            <p:nvSpPr>
              <p:cNvPr id="120" name=""/>
              <p:cNvSpPr/>
              <p:nvPr/>
            </p:nvSpPr>
            <p:spPr>
              <a:xfrm>
                <a:off x="7164360" y="3144960"/>
                <a:ext cx="576360" cy="430200"/>
              </a:xfrm>
              <a:custGeom>
                <a:avLst/>
                <a:gdLst/>
                <a:ahLst/>
                <a:rect l="l" t="t" r="r" b="b"/>
                <a:pathLst>
                  <a:path w="2132" h="1057">
                    <a:moveTo>
                      <a:pt x="0" y="506"/>
                    </a:moveTo>
                    <a:cubicBezTo>
                      <a:pt x="26" y="381"/>
                      <a:pt x="53" y="256"/>
                      <a:pt x="91" y="188"/>
                    </a:cubicBezTo>
                    <a:cubicBezTo>
                      <a:pt x="129" y="120"/>
                      <a:pt x="189" y="90"/>
                      <a:pt x="227" y="98"/>
                    </a:cubicBezTo>
                    <a:cubicBezTo>
                      <a:pt x="265" y="106"/>
                      <a:pt x="288" y="166"/>
                      <a:pt x="318" y="234"/>
                    </a:cubicBezTo>
                    <a:cubicBezTo>
                      <a:pt x="348" y="302"/>
                      <a:pt x="363" y="400"/>
                      <a:pt x="408" y="506"/>
                    </a:cubicBezTo>
                    <a:cubicBezTo>
                      <a:pt x="453" y="612"/>
                      <a:pt x="545" y="794"/>
                      <a:pt x="590" y="869"/>
                    </a:cubicBezTo>
                    <a:cubicBezTo>
                      <a:pt x="635" y="944"/>
                      <a:pt x="635" y="1057"/>
                      <a:pt x="680" y="959"/>
                    </a:cubicBezTo>
                    <a:cubicBezTo>
                      <a:pt x="725" y="861"/>
                      <a:pt x="801" y="423"/>
                      <a:pt x="862" y="279"/>
                    </a:cubicBezTo>
                    <a:cubicBezTo>
                      <a:pt x="923" y="135"/>
                      <a:pt x="960" y="0"/>
                      <a:pt x="1043" y="98"/>
                    </a:cubicBezTo>
                    <a:cubicBezTo>
                      <a:pt x="1126" y="196"/>
                      <a:pt x="1278" y="725"/>
                      <a:pt x="1361" y="869"/>
                    </a:cubicBezTo>
                    <a:cubicBezTo>
                      <a:pt x="1444" y="1013"/>
                      <a:pt x="1474" y="1050"/>
                      <a:pt x="1542" y="959"/>
                    </a:cubicBezTo>
                    <a:cubicBezTo>
                      <a:pt x="1610" y="868"/>
                      <a:pt x="1708" y="468"/>
                      <a:pt x="1769" y="324"/>
                    </a:cubicBezTo>
                    <a:cubicBezTo>
                      <a:pt x="1830" y="180"/>
                      <a:pt x="1845" y="45"/>
                      <a:pt x="1905" y="98"/>
                    </a:cubicBezTo>
                    <a:cubicBezTo>
                      <a:pt x="1965" y="151"/>
                      <a:pt x="2094" y="551"/>
                      <a:pt x="2132" y="64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1002200">
                <a:off x="7740360" y="3214080"/>
                <a:ext cx="576360" cy="430200"/>
              </a:xfrm>
              <a:custGeom>
                <a:avLst/>
                <a:gdLst/>
                <a:ahLst/>
                <a:rect l="l" t="t" r="r" b="b"/>
                <a:pathLst>
                  <a:path w="2132" h="1057">
                    <a:moveTo>
                      <a:pt x="0" y="506"/>
                    </a:moveTo>
                    <a:cubicBezTo>
                      <a:pt x="26" y="381"/>
                      <a:pt x="53" y="256"/>
                      <a:pt x="91" y="188"/>
                    </a:cubicBezTo>
                    <a:cubicBezTo>
                      <a:pt x="129" y="120"/>
                      <a:pt x="189" y="90"/>
                      <a:pt x="227" y="98"/>
                    </a:cubicBezTo>
                    <a:cubicBezTo>
                      <a:pt x="265" y="106"/>
                      <a:pt x="288" y="166"/>
                      <a:pt x="318" y="234"/>
                    </a:cubicBezTo>
                    <a:cubicBezTo>
                      <a:pt x="348" y="302"/>
                      <a:pt x="363" y="400"/>
                      <a:pt x="408" y="506"/>
                    </a:cubicBezTo>
                    <a:cubicBezTo>
                      <a:pt x="453" y="612"/>
                      <a:pt x="545" y="794"/>
                      <a:pt x="590" y="869"/>
                    </a:cubicBezTo>
                    <a:cubicBezTo>
                      <a:pt x="635" y="944"/>
                      <a:pt x="635" y="1057"/>
                      <a:pt x="680" y="959"/>
                    </a:cubicBezTo>
                    <a:cubicBezTo>
                      <a:pt x="725" y="861"/>
                      <a:pt x="801" y="423"/>
                      <a:pt x="862" y="279"/>
                    </a:cubicBezTo>
                    <a:cubicBezTo>
                      <a:pt x="923" y="135"/>
                      <a:pt x="960" y="0"/>
                      <a:pt x="1043" y="98"/>
                    </a:cubicBezTo>
                    <a:cubicBezTo>
                      <a:pt x="1126" y="196"/>
                      <a:pt x="1278" y="725"/>
                      <a:pt x="1361" y="869"/>
                    </a:cubicBezTo>
                    <a:cubicBezTo>
                      <a:pt x="1444" y="1013"/>
                      <a:pt x="1474" y="1050"/>
                      <a:pt x="1542" y="959"/>
                    </a:cubicBezTo>
                    <a:cubicBezTo>
                      <a:pt x="1610" y="868"/>
                      <a:pt x="1708" y="468"/>
                      <a:pt x="1769" y="324"/>
                    </a:cubicBezTo>
                    <a:cubicBezTo>
                      <a:pt x="1830" y="180"/>
                      <a:pt x="1845" y="45"/>
                      <a:pt x="1905" y="98"/>
                    </a:cubicBezTo>
                    <a:cubicBezTo>
                      <a:pt x="1965" y="151"/>
                      <a:pt x="2094" y="551"/>
                      <a:pt x="2132" y="64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17080" y="3214800"/>
                <a:ext cx="576000" cy="430200"/>
              </a:xfrm>
              <a:custGeom>
                <a:avLst/>
                <a:gdLst/>
                <a:ahLst/>
                <a:rect l="l" t="t" r="r" b="b"/>
                <a:pathLst>
                  <a:path w="2132" h="1057">
                    <a:moveTo>
                      <a:pt x="0" y="506"/>
                    </a:moveTo>
                    <a:cubicBezTo>
                      <a:pt x="26" y="381"/>
                      <a:pt x="53" y="256"/>
                      <a:pt x="91" y="188"/>
                    </a:cubicBezTo>
                    <a:cubicBezTo>
                      <a:pt x="129" y="120"/>
                      <a:pt x="189" y="90"/>
                      <a:pt x="227" y="98"/>
                    </a:cubicBezTo>
                    <a:cubicBezTo>
                      <a:pt x="265" y="106"/>
                      <a:pt x="288" y="166"/>
                      <a:pt x="318" y="234"/>
                    </a:cubicBezTo>
                    <a:cubicBezTo>
                      <a:pt x="348" y="302"/>
                      <a:pt x="363" y="400"/>
                      <a:pt x="408" y="506"/>
                    </a:cubicBezTo>
                    <a:cubicBezTo>
                      <a:pt x="453" y="612"/>
                      <a:pt x="545" y="794"/>
                      <a:pt x="590" y="869"/>
                    </a:cubicBezTo>
                    <a:cubicBezTo>
                      <a:pt x="635" y="944"/>
                      <a:pt x="635" y="1057"/>
                      <a:pt x="680" y="959"/>
                    </a:cubicBezTo>
                    <a:cubicBezTo>
                      <a:pt x="725" y="861"/>
                      <a:pt x="801" y="423"/>
                      <a:pt x="862" y="279"/>
                    </a:cubicBezTo>
                    <a:cubicBezTo>
                      <a:pt x="923" y="135"/>
                      <a:pt x="960" y="0"/>
                      <a:pt x="1043" y="98"/>
                    </a:cubicBezTo>
                    <a:cubicBezTo>
                      <a:pt x="1126" y="196"/>
                      <a:pt x="1278" y="725"/>
                      <a:pt x="1361" y="869"/>
                    </a:cubicBezTo>
                    <a:cubicBezTo>
                      <a:pt x="1444" y="1013"/>
                      <a:pt x="1474" y="1050"/>
                      <a:pt x="1542" y="959"/>
                    </a:cubicBezTo>
                    <a:cubicBezTo>
                      <a:pt x="1610" y="868"/>
                      <a:pt x="1708" y="468"/>
                      <a:pt x="1769" y="324"/>
                    </a:cubicBezTo>
                    <a:cubicBezTo>
                      <a:pt x="1830" y="180"/>
                      <a:pt x="1845" y="45"/>
                      <a:pt x="1905" y="98"/>
                    </a:cubicBezTo>
                    <a:cubicBezTo>
                      <a:pt x="1965" y="151"/>
                      <a:pt x="2094" y="551"/>
                      <a:pt x="2132" y="64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524720" y="2674800"/>
              <a:ext cx="1008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40 H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016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74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32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90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48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30640" y="4908600"/>
            <a:ext cx="0" cy="914400"/>
          </a:xfrm>
          <a:prstGeom prst="line">
            <a:avLst/>
          </a:prstGeom>
          <a:ln cap="sq" w="76320">
            <a:solidFill>
              <a:srgbClr val="99cc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4840" y="5734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e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5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213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71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29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787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0240" y="495792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6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7162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hen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424512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9900"/>
                </a:solidFill>
                <a:latin typeface="Times New Roman"/>
              </a:rPr>
              <a:t>30-6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660"/>
                            </p:stCondLst>
                            <p:childTnLst>
                              <p:par>
                                <p:cTn id="5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660"/>
                            </p:stCondLst>
                            <p:childTnLst>
                              <p:par>
                                <p:cTn id="5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66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860"/>
                            </p:stCondLst>
                            <p:childTnLst>
                              <p:par>
                                <p:cTn id="578" nodeType="afterEffect" fill="hold" presetClass="entr" presetID="26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966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1660"/>
                            </p:stCondLst>
                            <p:childTnLst>
                              <p:par>
                                <p:cTn id="5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100"/>
                            </p:stCondLst>
                            <p:childTnLst>
                              <p:par>
                                <p:cTn id="6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600"/>
                            </p:stCondLst>
                            <p:childTnLst>
                              <p:par>
                                <p:cTn id="6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100"/>
                            </p:stCondLst>
                            <p:childTnLst>
                              <p:par>
                                <p:cTn id="6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60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9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40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900"/>
                            </p:stCondLst>
                            <p:childTnLst>
                              <p:par>
                                <p:cTn id="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400"/>
                            </p:stCondLst>
                            <p:childTnLst>
                              <p:par>
                                <p:cTn id="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900"/>
                            </p:stCondLst>
                            <p:childTnLst>
                              <p:par>
                                <p:cTn id="6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4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2665440" cy="1785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11280" y="984240"/>
            <a:ext cx="1622160" cy="2444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27280" y="1039680"/>
            <a:ext cx="1689120" cy="2389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859280" y="981000"/>
            <a:ext cx="1722600" cy="244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32000" y="333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STHELYZ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948360" y="981000"/>
            <a:ext cx="1625760" cy="244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187280" y="393372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5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6000"/>
                            </p:stCondLst>
                            <p:childTnLst>
                              <p:par>
                                <p:cTn id="7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7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39704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önyökhajlítók maximális izometriás ereje 49,8 %-al növekedett három hetes vibráció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4Hz – 3mm)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tására (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urin et al. 1994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5415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könyökhajlítók átlag és csúcsteljesítménye szintén növekedett (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urin et al. (1999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1680" y="1125360"/>
            <a:ext cx="79423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A kimerűlésig tartó vibráció alatt, lassú térhajlítással kombinálva) az oxigén felhasználás 50 %-os volt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Arial"/>
              </a:rPr>
              <a:t>2max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 –hoz viszonyítva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ttwegger et al. 2000)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781360"/>
            <a:ext cx="7664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Kerschan-Schindl et al. (2001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) kimutatta, hogy a vibráció alatt megnövekedett a véráramlás sebessége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5 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13 cm.s-</a:t>
            </a:r>
            <a:r>
              <a:rPr b="1" lang="en-GB" sz="24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2728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t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4500"/>
                            </p:stCondLst>
                            <p:childTnLst>
                              <p:par>
                                <p:cTn id="785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92360" y="981000"/>
            <a:ext cx="611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ÖSZÖNÖM MEGTISZTELŐ FIGYELMÜKE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80000" y="620640"/>
            <a:ext cx="1223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981000"/>
            <a:ext cx="71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ll-e az erőt/izomtömeget fejleszteni a szív-, vagy tüdőbeteg emberb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268452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zom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ömeg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élettani keresztmetszete)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rányos az erőve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138560"/>
            <a:ext cx="67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izom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 cukor (és zsír) anyagcsere szerve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zulin rezisztenia, obesek és diab2 betegek izmainak lipidanyagcsere rendellenesége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80360" y="2924280"/>
            <a:ext cx="1409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47628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 kérdés nem az, hogy kell-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981000"/>
            <a:ext cx="27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97776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n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14810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hogyan 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27664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„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agyományos”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hab. edzés az aerob funkciók, mozgékonyság ... javítására: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folyamato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yaloglás, kerékpározás,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413856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nek módosítása az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terval tréning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erifériás okú alacsony MET, köpetürítés szükségessége, oxigén kiegészítés, változatosság, jobb eltűrhetőség, nagyobb intenzitás rövid idő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2247840"/>
            <a:ext cx="2016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198900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ometriás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yakorlatok (CP betegeken ali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013200"/>
            <a:ext cx="2952720" cy="2079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48000" y="3036960"/>
            <a:ext cx="2592360" cy="2074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84720" y="3068640"/>
            <a:ext cx="25196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96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8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68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68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868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13372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inamikus, koncentriku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különböző sebességgel rövidül az aktív iz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28083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264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989000"/>
            <a:ext cx="785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inamikus, excentriku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különböző sebességgel megnyúlik az aktív iz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131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2881440" cy="2130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64000" y="580536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zokinetikus (nyújt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664000" cy="213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45080" y="580536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zotóniás (nyújtás-rövidül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2410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4102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4102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644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0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198900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bráció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különböző frekvenciával ingerelt iz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2779560"/>
            <a:ext cx="1587240" cy="3673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300560" y="2852640"/>
            <a:ext cx="22096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92360" y="6206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zometrik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1844640"/>
            <a:ext cx="756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aximális erő (1 Repetition Maximum: 1RM) kifejthető, préselés pulzus és vérnyomás válasza, az adott izomhosszon vastagít – 2 MET alatti betegek ülve-fekve gyakorolhatják, 7 MET felettiek korlátok nélkü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69840" y="442260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ább 60 %-os (1RM-hez viszonyítva) izomfeszülés hoz erő és keresztmetszeti hatá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92360" y="6206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zisztencia ed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148428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 „mindenkinek ajánlott” program hetente kétszer javall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6226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gy izomcsoportokka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ombfeszítő és hajlító, karfeszítő és hajlító, has, törzs – derék- hátra-oldalt, hátfeszítő, delta, pectoral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406728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-4x8-12 ismétlés (8-12 RM intenzitással)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öztük 2 perc szünet stretchinggel, az egyes izomcsoportokat váltakozóan edz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36256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aját test, társ, súlyzók, gépek ellené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6:01:53Z</dcterms:created>
  <dc:creator>Tihanyi József</dc:creator>
  <dc:description/>
  <dc:language>en-US</dc:language>
  <cp:lastModifiedBy>Tihanyi József</cp:lastModifiedBy>
  <dcterms:modified xsi:type="dcterms:W3CDTF">2004-10-14T09:10:13Z</dcterms:modified>
  <cp:revision>6</cp:revision>
  <dc:subject/>
  <dc:title>1. dia</dc:title>
</cp:coreProperties>
</file>